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B30-F769-44FC-965B-6AF06D3A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1F6-1BDD-41B5-A32B-177C79CF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7A0-CED6-42A7-ACD8-8799774C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EDF-F74A-477C-8D9A-2BF9CF41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A19-5BF1-4FE2-B694-915D6579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A14-08AA-4A88-AC9B-89AA438C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0E4-0FAB-44B9-9F4E-BC887FEE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778-10F9-4B0A-9DE6-BC751410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687-04E2-4A2F-853E-D99A4BD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259-15EE-4701-A22A-04E8854D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7D8-00B9-4D19-A269-A9BDC8A9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F6B-7B32-41AC-B720-D5B36D87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A628-0863-4AC8-85A9-546266077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6 Ó, poďte všetci ku m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Ó, poďte všetci ku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preťažení 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končín z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spásu nájd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lahodne znie uch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ľkej ocho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odpustenie hrie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 Božej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poďte, všetci hrieš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dosiaľ blúdi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 Pána v každej t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jsť pokoj môž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Prostredníka – Kris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t v svete ná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 Bohu žiadna ces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neve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poďte, skleslí v 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moc prijmi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lovom Pán si stoj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cieľa dôjd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mocou smrti Kristu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zvíťaz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životu nám prístup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z hrob svoj pripravi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9:01:42Z</dcterms:modified>
  <cp:revision>20</cp:revision>
  <dc:subject/>
  <dc:title>Je veľký náš Pán, on slávy je Kráľ Nech do všetkých strán  spev vrúcnych znie chvál.</dc:title>
</cp:coreProperties>
</file>